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F65-584E-4542-AA83-862358CC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DCD-CD41-4578-8EA5-F87FA52B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D679-8295-4FFD-9AE8-7031D3A4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F5F-54E2-4C7B-9EAE-102FAA8E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71E-577A-4ED4-A3D3-2CF84BDA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687-FEEE-419F-B93E-2CE4881F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3EF-74A4-487B-B875-0522DCF7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854-30EB-481B-8BA8-96E465C5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85C-B375-4957-9228-7C37A60C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9D0-C8FF-4D09-BFDB-985E59D6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C99-23CF-4970-AEB8-00C1F175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716-1634-4267-93F4-69CF1D13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F2AC-D4E7-4FC6-8548-44BA0BFC665F}" type="slidenum"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8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– DL Support</a:t>
            </a:r>
            <a:endParaRPr b="1" lang="en-US" sz="48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560232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llan Ha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ML BenQ PHE AAL RD D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Wednesday, February 08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ff"/>
                </a:solidFill>
                <a:latin typeface="Minion"/>
              </a:rPr>
              <a:t>Integration Management - approach</a:t>
            </a:r>
            <a:endParaRPr b="1" lang="en-US" sz="28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Facts: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tabil Aries SW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Very short term development time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Consequence: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tabilisation and protection of the SW MUST be managed and controlled through out the whole development cyckle  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Strict planning of integration points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Filtering sw maturity deliverires (Qualitity gates, tests) 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Non-immediate workflow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Incremental integration sequence (layer dependancies)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Release Management: 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Iterative process with main release every second week, bugfix follow the week after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ClearQuest bug tracing from the start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All development on one DB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eek to avoid distributed development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CRUM approach (i.e. target for next release etc.)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Integration Managemen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Statu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IDB in BEI with Aries SVN 25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CDB in AAL in sync 09.02.2006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Workflow TBD in workshop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Definition of a SW packages from SISL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Sneak preview from PSE/STSL/SISL 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Release Management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Tracking team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OTC (Official Tool Chain) TBC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Production tooling (Lauterbach, winswup, bfc, etc.)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DL support 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Project organization 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DL working area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Workareas/packages - TBC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Risk’s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Integration Management support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Project organization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IM/BM/CM approach - TBD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Current status 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7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DL Workareas/packag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41480" y="554040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1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876400" y="5540400"/>
          <a:ext cx="9144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640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884760" y="5540400"/>
          <a:ext cx="914400" cy="71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476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821120" y="5535720"/>
          <a:ext cx="914400" cy="714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1120" y="55357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900440" y="5157720"/>
            <a:ext cx="50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teckbreif   Styleguide        UE          Featurelist    dHW de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829480" y="5540400"/>
          <a:ext cx="914400" cy="7142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29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324000" y="1197000"/>
            <a:ext cx="82962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Risk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996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3-06 A1/B1 + DL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095960" cy="3281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A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-HW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7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1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9/10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– IM Support</a:t>
            </a:r>
            <a:endParaRPr b="1" lang="en-US" sz="48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BMLaha</cp:lastModifiedBy>
  <dcterms:modified xsi:type="dcterms:W3CDTF">2006-02-08T14:53:46Z</dcterms:modified>
  <cp:revision>58</cp:revision>
  <dc:subject/>
  <dc:title>Jerry - DL</dc:title>
</cp:coreProperties>
</file>